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94D-0543-40DC-B396-65FF6FF9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9CC-794F-40E6-8FC7-6FC40CDD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13E-FAAA-4088-AD88-1E6FB85B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8C9-1865-45C1-937E-4CBA52DC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166A0-FCBA-4F3E-8E9D-AA6397C7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62784-EDFB-46CB-93CF-9DFDD364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73737-47C3-4B95-8360-677D735A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05D6A-B76A-43B4-BBAA-5551F7BE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AE4F4-3D17-42CB-BF15-6EA847D2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5CBE1-A325-4A5C-9060-4736744F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EC5A7-8EBC-4F82-B4A7-A4E54253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658-6A6F-423E-BA26-E00AE5AA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14DDA-73EF-432A-BF44-EFE729FE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DE615-6F5A-42C8-806C-9A1E873D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8D9C1-7EA7-4EB4-9C60-B8C7E930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54C42-7086-44F8-B2E8-176B8C6A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5CAEF-B996-414B-9904-805191CD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05E0-4C8B-41F5-85DD-A5427207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B2EF-24D4-40D0-8E48-6FC3BB11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7880-D42A-49D4-BFBC-B260D82C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E00D-FF0C-4558-9F5C-E34D6F2B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6C1-8E97-44A2-AB63-96CB5A0F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507-CEC6-4331-86C1-B4717438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2EE3-1965-4D7D-9007-9760D73F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209D-ABAC-4EFD-BC52-29130237FF2F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B139-2A79-4744-AAF4-99612334F94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7EA1-728B-49EF-B034-B883F73FAA9C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3295-4959-4240-B8D0-287BDEDF2A6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981000"/>
            <a:ext cx="799128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3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FRAS 6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تنقيب عنه وتقييم الموارد التعدينية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61088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1B096-FD40-4C04-876C-F2F41A5A4E7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لا يتم الاعتراف بالمصروفات التى تتحملها المنشأة من أجل تطوير الموارد التعدينية باعتبارها كأصول تنقيب و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010-C24C-4933-A375-2C779F8637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1412640"/>
            <a:ext cx="4629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بويب أصول التنقيب والتقييم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ملموسة مثل : سيارات ، حفار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غير ملموسة مثل : حقوق الحف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07DE-20D5-4A9B-8A28-60EA907139F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ندما تكون القيمة الدفترية لهذه الاصول أكبر من قيمتها الاستردادية، وفى تلك الحالة يتم الاعتراف بأى خسائر كمصروفات تدرج ضمن قائمة الدخ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×××      من حـ/ المصرو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                  ×××     الى حـ/ مجمع الاستنفا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ويسمى ذلك باختبار الاضمحلال أو القابلية للتغطية أو الانخفا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62064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إنخفاض قيمة أصول التنقيب والتقييم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CD54-748A-447B-B4E8-22F06A22B73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لى المنشأة الإعتراف بأى التزامات تتعلق بالازالة والتجديد التى تكبدتها خلال فترة محددة كنتيجة لقيامها بالتنقيب عن وتقييم الموارد التعدينية.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9F3-E42F-40C2-BC8E-6C7FB9729B4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جب على المنشأة الافصاح ع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سياستها المحاسبية فى معالجة نفقات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قيم الاصول والالتزامات والايراد والمصروف والتدفقات النقدية من أنشطة التشغيل والاستثمار الناتجة عن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جـ - معالجة أصول التنقيب والتقييم كأصول مستقلة وأنه يتم الافصاح عنها فى حالة إذا كانت أصول ملموسة أو غير ملموس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71D-CCF8-4F24-824E-963938EAA61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مصروف الاستنفاذ = ـ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ـــــــــــــــــــــــــــــــــــــــــــــــــــــــــ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× عدد الوحدات المنتجة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28760" y="3259080"/>
            <a:ext cx="493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نفقات التى تكبدتها المنشأة فى سبيل التنقيب والتقييم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933720"/>
            <a:ext cx="39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جمالى كمية الانتاج المتوقع انتاجها بالوحدات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773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* كيفية احتساب الاستنفاذ 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8CD2B-C08B-4B2D-ACC1-3127FF9C598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365360"/>
            <a:ext cx="8748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طلـوب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:-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قيمة مصروفات الاستنفا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قيود اليومية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صافى قيمة الأصل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62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ال توضيحى :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قامت إحدى شركات الاستكشاف عن البترول بتكبد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جنيه مصرى فى سبيل التنقيب عن أحد آبار البترول بالصحراء الغربية، وقد كانت كمية الانتاج المتوقع استخراجها طبقاً للدراسة الهندسية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، وعند الرجوع لدفاتر الشركة اتضح أن كمية الوحدات المنتجة خلال العام المالى المنتهى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تقدر بـ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31E-7A00-42F3-ABC9-517BDCD42E6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4000" y="475920"/>
            <a:ext cx="1882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حــل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14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 الاستنفاذ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= ــــــــــــــــــــــــــــــــــــ ×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=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قيود اليومية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أصول التنقيب والتقيي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النقد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              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مصروف الاستفاذ – قائمة الدخ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مجمع الاستنفاذ - ميزان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صافى قيمة الأصل فى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تكلفة أصول التنقيب والاستكشا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(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)          مجمع الاستنف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45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  صافى قيمة الاصل فى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03760" y="14130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17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B6A8-FF48-489C-B9AB-6E44B4A6C744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280" y="22824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مقصود بنفقات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ى النفقات التى تتكبدها المنشأة والمتعلقة بالتنقيب عن وتقييم الموارد التعدينية قبل أن تتضح الجدوى الفنية والفائدة التجارية لاستخراج الموارد التعدي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A7C2-57BC-4DAF-A8BD-75300690EAC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u="sng">
                <a:solidFill>
                  <a:srgbClr val="ffff00"/>
                </a:solidFill>
                <a:uFillTx/>
                <a:latin typeface="Arial"/>
              </a:rPr>
              <a:t>المقصود بالتنقيب عن وتقييم الموارد التعدينية:-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و البحث عن الموارد التعدينية والموارد غير المتجددة بعد حصول المنشأة على الحقوق القانونية للتنقيب فى  منطقة محددة وكذلك تحديد الجدوى الفنية والفائدة التجارية منه إستخراج المورد التعدين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مثال على ذلك : المعادنة – البترول – الغاز الطبيع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7BAA-1BD5-4976-9393-751EED1FCB2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2060640"/>
            <a:ext cx="77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</a:rPr>
              <a:t>يعترف بنفقات التنقيب والتقييم كأصول طبقاً للسياسة المحاسبية للمنشأ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5C5-05DD-4A69-96D9-A2C99A2C29E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طبق هذا المعيار على النفقات التى تكبدتها المنشأة فى سبي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0B1-6814-4F08-AA37-AE38589472D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00"/>
                </a:solidFill>
                <a:latin typeface="Arial"/>
              </a:rPr>
              <a:t>لا تطبق المنشأة هذا المعيار فى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قبل التنقيب عن وتقييم الموارد التعدينية مثل النفقات المتكبدة قبل حصول المنشأة على الحقوق القانونية للتنقيب فى منطقة محد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بعد أن تظهر بوضوح الجدوى الفنية والقدرة التجارية لاستخراج الموارد التعدين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F2BF-1635-4131-B15E-394A0701AEE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4360" y="16999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قياس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اس الأولــــى : بالتكلف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ـاس اللاحـــق : إعادة تقييم ا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33E-194A-4187-8B90-A7020B9EF1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عناصر تكاليف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هى التكاليف التى تساهم فى إكتشاف موارد تعدينية مثل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صول على حقوق ا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دراسة الطبوغرافية والجيولوج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فر ل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حفر الآبا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خذ العين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انشطة المرتبطة بتقييم الجدوى الفنية والقدرة التجار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AE9A-97AE-4E26-8118-8172DAC44DD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تغيير فى السياسات المحاسبية فى حالة تغيير المنشأة لسياستها المحاسبية فيما يتعلق بنفقات التنقيب والتقييم فيجب عليها أ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تفصح عن أسباب ذل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أثر ذلك على القوائم المال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678C-9B37-4D0E-8531-0974C602E66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4:11:57Z</dcterms:created>
  <dc:creator>h.awadain</dc:creator>
  <dc:description/>
  <dc:language>en-US</dc:language>
  <cp:lastModifiedBy>k.refaat</cp:lastModifiedBy>
  <dcterms:modified xsi:type="dcterms:W3CDTF">2006-11-06T13:07:48Z</dcterms:modified>
  <cp:revision>18</cp:revision>
  <dc:subject/>
  <dc:title>المقصود بنفقات التنقيب والتقييم: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